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21960" y="909360"/>
            <a:ext cx="59785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596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9552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428720" y="0"/>
            <a:ext cx="33958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1368080"/>
            <a:ext cx="339552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42872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ED208-91A0-488F-A747-4C6FCEF2CED2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7D22-9394-453F-ABF0-ED93E9CB7EB4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-47160" bIns="-52200" anchor="b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7043EF-0132-4185-AC92-0FD038A10995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E65FB025-F053-4C0E-A685-809995E84B09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438F-EAEF-46F5-876B-709DBC74D240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2320" y="909720"/>
            <a:ext cx="5979960" cy="4486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611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1200"/>
                <a:tab algn="l" pos="1565280"/>
                <a:tab algn="l" pos="2347920"/>
                <a:tab algn="l" pos="3133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2825-C2B7-441A-BB14-970AC7EAED1E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0880" y="907920"/>
            <a:ext cx="5983200" cy="4488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81200" y="5684760"/>
            <a:ext cx="626256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3543-055D-4627-9E6C-87B30A7A8EC5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2320" y="909720"/>
            <a:ext cx="5979960" cy="4486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611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1200"/>
                <a:tab algn="l" pos="1565280"/>
                <a:tab algn="l" pos="2347920"/>
                <a:tab algn="l" pos="3133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1F9B6-337C-4FF6-986A-07142FE62908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907920"/>
            <a:ext cx="5983200" cy="44881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81200" y="5684760"/>
            <a:ext cx="626256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E3D-B04F-4FB0-B2F6-13CCC9EE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BFF-B52F-4AD7-BBA1-DAA84A7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C7-7468-485D-822E-C1AA5DDC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8C7-C4EE-4BE4-8C28-11B77C90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2BC-F43D-4F27-8790-0938D149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B42-ADFF-4B82-B084-812B7C23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69D-5A3B-45C7-96CA-FC669F4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04A-E373-46AF-BC86-8A066DD2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B47-6DAF-4FBF-AF27-D64F29B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B9A-D99B-48F5-A4A3-2843F7E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0E5-836F-4A83-8A22-BCA55ED7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CA2-1815-45F9-9343-08CE8E9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1240" indent="-42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7136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3976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BC6724-90D2-491F-A23F-4D58FB3ADD7E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DF7571C5-FBBA-4539-A1E3-BEF36EBA8CB4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scuoladieconomiacivile.i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214960" y="4429080"/>
            <a:ext cx="175248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4"/>
          <p:cNvSpPr/>
          <p:nvPr/>
        </p:nvSpPr>
        <p:spPr>
          <a:xfrm>
            <a:off x="3571920" y="4572000"/>
            <a:ext cx="328608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Silvia Va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Banca d’It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15 febbraio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1440" y="566640"/>
            <a:ext cx="8601120" cy="5724720"/>
          </a:xfrm>
          <a:prstGeom prst="rect">
            <a:avLst/>
          </a:prstGeom>
          <a:ln w="0">
            <a:noFill/>
          </a:ln>
        </p:spPr>
      </p:pic>
      <p:sp>
        <p:nvSpPr>
          <p:cNvPr id="89" name="Rettangolo 5"/>
          <p:cNvSpPr/>
          <p:nvPr/>
        </p:nvSpPr>
        <p:spPr>
          <a:xfrm>
            <a:off x="5786280" y="2000160"/>
            <a:ext cx="214560" cy="2145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81000" y="571680"/>
            <a:ext cx="8982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3"/>
          <p:cNvSpPr/>
          <p:nvPr/>
        </p:nvSpPr>
        <p:spPr>
          <a:xfrm>
            <a:off x="2753280" y="2133720"/>
            <a:ext cx="394488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scuoladieconomiacivil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witter:@Sec_Lop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cebook: Scuola di Economia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re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Leonardo Brancac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. +39 380 150 45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lun. al ven ore 9.00 – 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3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4548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4"/>
          <p:cNvSpPr/>
          <p:nvPr/>
        </p:nvSpPr>
        <p:spPr>
          <a:xfrm>
            <a:off x="0" y="3484440"/>
            <a:ext cx="5761080" cy="21344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ffffff"/>
                </a:solidFill>
                <a:latin typeface="French Script MT"/>
              </a:rPr>
              <a:t>IlluminismoFranc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5"/>
          <p:cNvSpPr/>
          <p:nvPr/>
        </p:nvSpPr>
        <p:spPr>
          <a:xfrm>
            <a:off x="4932360" y="4869000"/>
            <a:ext cx="3743280" cy="21344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ffffff"/>
                </a:solidFill>
                <a:latin typeface="French Script MT"/>
              </a:rPr>
              <a:t>Rivoluzi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3"/>
          <p:cNvSpPr/>
          <p:nvPr/>
        </p:nvSpPr>
        <p:spPr>
          <a:xfrm>
            <a:off x="324000" y="390600"/>
            <a:ext cx="4824360" cy="179460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French Script MT"/>
              </a:rPr>
              <a:t>Illuminismo scozz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magine 5" descr=""/>
          <p:cNvPicPr/>
          <p:nvPr/>
        </p:nvPicPr>
        <p:blipFill>
          <a:blip r:embed="rId1"/>
          <a:stretch/>
        </p:blipFill>
        <p:spPr>
          <a:xfrm>
            <a:off x="5184720" y="404640"/>
            <a:ext cx="3951360" cy="589464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4"/>
          <p:cNvSpPr/>
          <p:nvPr/>
        </p:nvSpPr>
        <p:spPr>
          <a:xfrm rot="19064400">
            <a:off x="6348600" y="2810520"/>
            <a:ext cx="37447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French Script MT"/>
              </a:rPr>
              <a:t>Economia Poli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Fumetto 1 6"/>
          <p:cNvGrpSpPr/>
          <p:nvPr/>
        </p:nvGrpSpPr>
        <p:grpSpPr>
          <a:xfrm>
            <a:off x="225360" y="1590840"/>
            <a:ext cx="4950000" cy="4608360"/>
            <a:chOff x="225360" y="1590840"/>
            <a:chExt cx="4950000" cy="4608360"/>
          </a:xfrm>
        </p:grpSpPr>
        <p:pic>
          <p:nvPicPr>
            <p:cNvPr id="60" name="Fumetto 1 6" descr=""/>
            <p:cNvPicPr/>
            <p:nvPr/>
          </p:nvPicPr>
          <p:blipFill>
            <a:blip r:embed="rId2"/>
            <a:stretch/>
          </p:blipFill>
          <p:spPr>
            <a:xfrm>
              <a:off x="225360" y="1590840"/>
              <a:ext cx="4950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24000" y="1628640"/>
              <a:ext cx="4679640" cy="41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4000" spc="-1" strike="noStrike">
                  <a:solidFill>
                    <a:srgbClr val="ffffff"/>
                  </a:solidFill>
                  <a:latin typeface="comic"/>
                </a:rPr>
                <a:t>ADAM SMIT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«Non è dalla benevolenza del macellaio, del birraio o del fornaio che ci aspettiamo il nostro pranzo, ma dalla cura che essi hanno per il proprio interesse. Non ci rivolgiamo alla loro umanità ma al loro interesse personale». (177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214880" y="119232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ivile… fu l’espressione che Genovesi scelse sia come titolo del suo principale trattato economico (Lezioni di economia civile, 1765-1767),  sia per la cattedra da lui occupata (17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magine 6" descr="genovesi.jpg"/>
          <p:cNvPicPr/>
          <p:nvPr/>
        </p:nvPicPr>
        <p:blipFill>
          <a:blip r:embed="rId2"/>
          <a:stretch/>
        </p:blipFill>
        <p:spPr>
          <a:xfrm>
            <a:off x="1428840" y="857160"/>
            <a:ext cx="2639880" cy="3167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8572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ome luogo di civiltà e mezzo di incivilimento per migliorare il “bene vivere” delle persone e dei po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71840" y="214200"/>
            <a:ext cx="5329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428920" y="285840"/>
            <a:ext cx="532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principi dell’Economia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contenuto 2"/>
          <p:cNvSpPr/>
          <p:nvPr/>
        </p:nvSpPr>
        <p:spPr>
          <a:xfrm>
            <a:off x="1428840" y="1357200"/>
            <a:ext cx="77151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conomia civile è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dig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on un modello econ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aloga con l’etica (regno dei valori) e con la politica (regno dei f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 una funzione pratico-orientatativa, tende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licità Pubblic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 il mercato com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utuo vant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mmett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ncipio di reciprocità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principio economico di ordine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ronta la tragedia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ni comuni 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 la ‘commedia’ dei ben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’ tra i beni economici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ni relazi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osta il dibattito economico dal profitto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n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3"/>
          <p:cNvSpPr/>
          <p:nvPr/>
        </p:nvSpPr>
        <p:spPr>
          <a:xfrm>
            <a:off x="1619280" y="29242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mento endemico delle disuguagli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tru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adosso della felicità (beni relazio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a soluzione alla ‘tragedia’ dei beni 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1"/>
          <p:cNvSpPr/>
          <p:nvPr/>
        </p:nvSpPr>
        <p:spPr>
          <a:xfrm>
            <a:off x="-2482920" y="880920"/>
            <a:ext cx="1426716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Perché oggi comincia a sentirsi parl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di Economia Civil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104320" cy="4286520"/>
          </a:xfrm>
          <a:prstGeom prst="rect">
            <a:avLst/>
          </a:prstGeom>
          <a:ln w="0">
            <a:noFill/>
          </a:ln>
        </p:spPr>
      </p:pic>
      <p:sp>
        <p:nvSpPr>
          <p:cNvPr id="75" name="Rettangolo 5"/>
          <p:cNvSpPr/>
          <p:nvPr/>
        </p:nvSpPr>
        <p:spPr>
          <a:xfrm>
            <a:off x="-829800" y="714240"/>
            <a:ext cx="10774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I numeri delle disuguaglian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428920" y="285840"/>
            <a:ext cx="5329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Uno sguardo 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riangolo isoscele 5"/>
          <p:cNvSpPr/>
          <p:nvPr/>
        </p:nvSpPr>
        <p:spPr>
          <a:xfrm>
            <a:off x="3548160" y="2124000"/>
            <a:ext cx="2952720" cy="2448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9"/>
          <p:cNvSpPr/>
          <p:nvPr/>
        </p:nvSpPr>
        <p:spPr>
          <a:xfrm>
            <a:off x="6175440" y="4762440"/>
            <a:ext cx="1396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10"/>
          <p:cNvSpPr/>
          <p:nvPr/>
        </p:nvSpPr>
        <p:spPr>
          <a:xfrm>
            <a:off x="4591080" y="1093680"/>
            <a:ext cx="79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1"/>
          <p:cNvSpPr/>
          <p:nvPr/>
        </p:nvSpPr>
        <p:spPr>
          <a:xfrm>
            <a:off x="2357280" y="4762440"/>
            <a:ext cx="2352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ocietà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3"/>
          <p:cNvSpPr/>
          <p:nvPr/>
        </p:nvSpPr>
        <p:spPr>
          <a:xfrm>
            <a:off x="5459400" y="5064120"/>
            <a:ext cx="3255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cambio di equival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15"/>
          <p:cNvSpPr/>
          <p:nvPr/>
        </p:nvSpPr>
        <p:spPr>
          <a:xfrm>
            <a:off x="3214800" y="1428840"/>
            <a:ext cx="37414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Principio di redistrib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16"/>
          <p:cNvSpPr/>
          <p:nvPr/>
        </p:nvSpPr>
        <p:spPr>
          <a:xfrm>
            <a:off x="1643040" y="5079960"/>
            <a:ext cx="3214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Principio di recipro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1280" y="428760"/>
            <a:ext cx="8956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lvia</dc:creator>
  <dc:description/>
  <dc:language>en-US</dc:language>
  <cp:lastModifiedBy>Silvia</cp:lastModifiedBy>
  <dcterms:modified xsi:type="dcterms:W3CDTF">2018-02-15T07:32:12Z</dcterms:modified>
  <cp:revision>179</cp:revision>
  <dc:subject/>
  <dc:title>Diapositiva 1</dc:title>
</cp:coreProperties>
</file>